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N00793A.wav" ContentType="audio/x-wav"/>
  <Override PartName="/ppt/media/image9.wmf" ContentType="image/x-wmf"/>
  <Override PartName="/ppt/media/image8.png" ContentType="image/png"/>
  <Override PartName="/ppt/media/image10.png" ContentType="image/png"/>
  <Override PartName="/ppt/media/applause.wav" ContentType="audio/x-wav"/>
  <Override PartName="/ppt/media/image15.png" ContentType="image/png"/>
  <Override PartName="/ppt/media/image12.gif" ContentType="image/gi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j0074728.wav" ContentType="audio/x-wav"/>
  <Override PartName="/ppt/media/image4.png" ContentType="image/png"/>
  <Override PartName="/ppt/media/image13.wmf" ContentType="image/x-wmf"/>
  <Override PartName="/ppt/media/image5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2C7F-9590-41EB-8E89-D4114F8E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546-2297-454A-964F-492768A1B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B66-0B61-41EE-996F-05F1BED8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527-B337-4A99-AB6F-17EF85D8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4EC-5DC5-40FE-AE35-85DDCE03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FE2-D8FE-475D-B8CF-1EB43108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513-B64D-4808-8D76-2F964FDF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443D-1D53-4F61-BF61-C318F8B7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938-6240-43C8-A5C5-F6712535D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68D7-B2B2-4F44-BB06-87084BBE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9AC-B277-431C-B692-8DDF45565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9A1-46D6-4862-B898-155131F5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604-3954-4C90-BFF6-A46D87827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CBA-90A7-451E-AF50-566373DC3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D02-2AC7-4F88-AACF-17D5D396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680-4434-4197-98F0-895606C78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6E9-1725-4281-B8E1-E52E56F42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79F-C6E9-49E4-9450-1B943DAD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01A-9217-4872-9758-24714362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FE2-BEF2-4CC0-BBE7-9908507F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21B-00C2-4308-9B2C-29D3451C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B96-1C82-42B1-A8D8-F105B440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D42-FF66-4FF4-9BE0-2948FEE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8AB-EAAD-4CD2-8A6E-11C5E604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B3F-8AB8-48BB-8401-530B7BD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F35-5E99-4FFE-89DB-9FCAD904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C4B-D5C1-4D2B-A905-F16E972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4C1-16D9-40F8-B1C4-E688CAC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CE4-5AFB-41C3-9A3A-C3C21B8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FB7-3325-44BC-8D95-37CF87857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007472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audio" Target="../media/SN00793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audio" Target="../media/SN00793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audio" Target="../media/SN00793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j007472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0074728.wav"/><Relationship Id="rId3" Type="http://schemas.openxmlformats.org/officeDocument/2006/relationships/audio" Target="../media/j007472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j0074728.wav"/><Relationship Id="rId5" Type="http://schemas.openxmlformats.org/officeDocument/2006/relationships/audio" Target="../media/SN00793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audio" Target="../media/j0074728.wav"/><Relationship Id="rId5" Type="http://schemas.openxmlformats.org/officeDocument/2006/relationships/audio" Target="../media/j0074728.wav"/><Relationship Id="rId6" Type="http://schemas.openxmlformats.org/officeDocument/2006/relationships/audio" Target="../media/j0074728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SchoolText"/>
              </a:rPr>
              <a:t>Money Matter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SchoolText"/>
              </a:rPr>
              <a:t>Introduction to the Pen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choolText"/>
              </a:rPr>
              <a:t>by: Nickie Kell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j007472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 flipH="1" rot="10800000">
            <a:off x="838080" y="4952520"/>
            <a:ext cx="201456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505320" y="5029200"/>
            <a:ext cx="20145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095880" y="5029200"/>
            <a:ext cx="2014560" cy="1447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1295280" y="1447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d you say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276720" y="2743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72428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uided 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 me 4c on your work m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35812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343400" y="2057400"/>
            <a:ext cx="441972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Program Files\Microsoft Office\Clipart\standard\stddir2\bs00316_.wmf"/>
          <p:cNvPicPr/>
          <p:nvPr/>
        </p:nvPicPr>
        <p:blipFill>
          <a:blip r:embed="rId1"/>
          <a:stretch/>
        </p:blipFill>
        <p:spPr>
          <a:xfrm>
            <a:off x="762120" y="3809880"/>
            <a:ext cx="1676160" cy="3048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43000" y="5638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523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WINDOWS\Application Data\Microsoft\Media Catalog\Downloaded Clips\cl71\j0283467.gif"/>
          <p:cNvPicPr/>
          <p:nvPr/>
        </p:nvPicPr>
        <p:blipFill>
          <a:blip r:embed="rId2"/>
          <a:stretch/>
        </p:blipFill>
        <p:spPr>
          <a:xfrm>
            <a:off x="1981080" y="2819520"/>
            <a:ext cx="2210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ide and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2057400"/>
            <a:ext cx="822960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Program Files\Microsoft Office\Clipart\standard\stddir2\bs00590_.wmf"/>
          <p:cNvPicPr/>
          <p:nvPr/>
        </p:nvPicPr>
        <p:blipFill>
          <a:blip r:embed="rId1"/>
          <a:stretch/>
        </p:blipFill>
        <p:spPr>
          <a:xfrm>
            <a:off x="662940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Program Files\Microsoft Office\Clipart\standard\stddir2\bs00590_.wmf"/>
          <p:cNvPicPr/>
          <p:nvPr/>
        </p:nvPicPr>
        <p:blipFill>
          <a:blip r:embed="rId2"/>
          <a:stretch/>
        </p:blipFill>
        <p:spPr>
          <a:xfrm>
            <a:off x="47242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Program Files\Microsoft Office\Clipart\standard\stddir2\bs00590_.wmf"/>
          <p:cNvPicPr/>
          <p:nvPr/>
        </p:nvPicPr>
        <p:blipFill>
          <a:blip r:embed="rId3"/>
          <a:stretch/>
        </p:blipFill>
        <p:spPr>
          <a:xfrm>
            <a:off x="31240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Program Files\Microsoft Office\Clipart\standard\stddir2\bs00590_.wmf"/>
          <p:cNvPicPr/>
          <p:nvPr/>
        </p:nvPicPr>
        <p:blipFill>
          <a:blip r:embed="rId4"/>
          <a:stretch/>
        </p:blipFill>
        <p:spPr>
          <a:xfrm>
            <a:off x="1295280" y="3200400"/>
            <a:ext cx="14796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 me 6c on your work m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5812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343400" y="2057400"/>
            <a:ext cx="441972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2\bs00316_.wmf"/>
          <p:cNvPicPr/>
          <p:nvPr/>
        </p:nvPicPr>
        <p:blipFill>
          <a:blip r:embed="rId1"/>
          <a:stretch/>
        </p:blipFill>
        <p:spPr>
          <a:xfrm>
            <a:off x="838080" y="380988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43000" y="5638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5238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c:\Program Files\Microsoft Office\Clipart\standard\stddir4\so01957_.wmf"/>
          <p:cNvPicPr/>
          <p:nvPr/>
        </p:nvPicPr>
        <p:blipFill>
          <a:blip r:embed="rId2"/>
          <a:stretch/>
        </p:blipFill>
        <p:spPr>
          <a:xfrm>
            <a:off x="1905120" y="1828800"/>
            <a:ext cx="2109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ide and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205740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Program Files\Microsoft Office\Clipart\standard\stddir2\bs00590_.wmf"/>
          <p:cNvPicPr/>
          <p:nvPr/>
        </p:nvPicPr>
        <p:blipFill>
          <a:blip r:embed="rId1"/>
          <a:stretch/>
        </p:blipFill>
        <p:spPr>
          <a:xfrm>
            <a:off x="74674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Program Files\Microsoft Office\Clipart\standard\stddir2\bs00590_.wmf"/>
          <p:cNvPicPr/>
          <p:nvPr/>
        </p:nvPicPr>
        <p:blipFill>
          <a:blip r:embed="rId2"/>
          <a:stretch/>
        </p:blipFill>
        <p:spPr>
          <a:xfrm>
            <a:off x="594360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Program Files\Microsoft Office\Clipart\standard\stddir2\bs00590_.wmf"/>
          <p:cNvPicPr/>
          <p:nvPr/>
        </p:nvPicPr>
        <p:blipFill>
          <a:blip r:embed="rId3"/>
          <a:stretch/>
        </p:blipFill>
        <p:spPr>
          <a:xfrm>
            <a:off x="4495680" y="312408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Program Files\Microsoft Office\Clipart\standard\stddir2\bs00590_.wmf"/>
          <p:cNvPicPr/>
          <p:nvPr/>
        </p:nvPicPr>
        <p:blipFill>
          <a:blip r:embed="rId4"/>
          <a:stretch/>
        </p:blipFill>
        <p:spPr>
          <a:xfrm>
            <a:off x="3048120" y="320040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Program Files\Microsoft Office\Clipart\standard\stddir2\bs00590_.wmf"/>
          <p:cNvPicPr/>
          <p:nvPr/>
        </p:nvPicPr>
        <p:blipFill>
          <a:blip r:embed="rId5"/>
          <a:stretch/>
        </p:blipFill>
        <p:spPr>
          <a:xfrm>
            <a:off x="1523880" y="3200400"/>
            <a:ext cx="1479600" cy="143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Program Files\Microsoft Office\Clipart\standard\stddir2\bs00590_.wmf"/>
          <p:cNvPicPr/>
          <p:nvPr/>
        </p:nvPicPr>
        <p:blipFill>
          <a:blip r:embed="rId6"/>
          <a:stretch/>
        </p:blipFill>
        <p:spPr>
          <a:xfrm>
            <a:off x="0" y="3276720"/>
            <a:ext cx="14796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Congratulation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!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You are a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Penny Exper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6600"/>
                </a:solidFill>
                <a:latin typeface="SchoolText"/>
              </a:rPr>
              <a:t>Penny Fac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School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Copp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0" y="426708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800440" cy="286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j0074728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523880" y="8380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219320" y="11430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A penny has two sides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C:\WINDOWS\Application Data\Microsoft\Media Catalog\Downloaded Clips\cl0\AG00360_.gif"/>
          <p:cNvPicPr/>
          <p:nvPr/>
        </p:nvPicPr>
        <p:blipFill>
          <a:blip r:embed="rId1"/>
          <a:stretch/>
        </p:blipFill>
        <p:spPr>
          <a:xfrm>
            <a:off x="2590920" y="2765520"/>
            <a:ext cx="4267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ea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braham Lincol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l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black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28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much is a penny wor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027"/>
          <p:cNvGraphicFramePr/>
          <p:nvPr/>
        </p:nvGraphicFramePr>
        <p:xfrm>
          <a:off x="4191120" y="3276720"/>
          <a:ext cx="5140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76720"/>
                    <a:ext cx="514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028"/>
          <p:cNvSpPr/>
          <p:nvPr/>
        </p:nvSpPr>
        <p:spPr>
          <a:xfrm>
            <a:off x="3276720" y="2666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9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1352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66680" y="19810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SchoolText"/>
              </a:rPr>
              <a:t>It’s time to check your learning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j0074728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905120" y="9144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SchoolText"/>
              </a:rPr>
              <a:t>How much is a penny wor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76920" y="3048120"/>
            <a:ext cx="3200400" cy="41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Did you say...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SchoolTex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1026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47304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295280" y="3200400"/>
            <a:ext cx="201456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4" name="j0074728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79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43000" y="13716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much mone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201456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2014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7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06:06:35Z</dcterms:created>
  <dc:creator>lita</dc:creator>
  <dc:description/>
  <dc:language>en-US</dc:language>
  <cp:lastModifiedBy>Kim</cp:lastModifiedBy>
  <cp:lastPrinted>2002-03-30T12:54:32Z</cp:lastPrinted>
  <dcterms:modified xsi:type="dcterms:W3CDTF">2009-11-08T18:35:44Z</dcterms:modified>
  <cp:revision>10</cp:revision>
  <dc:subject/>
  <dc:title>Money Matters</dc:title>
</cp:coreProperties>
</file>